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7D2-F331-47D6-A5D5-111EB1B8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9D8-8D8A-4FFC-BE8D-F8D0B543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524-FC31-4401-88C8-6B9093CF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877-FA89-4E25-8E69-51376F75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433-BDE9-4912-B550-F41C44A4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5E2-1069-4566-96C8-883766EB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E7E-6252-477B-AEDF-A5189CC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7E3-2A66-4321-94B4-8ACB25D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108-D2EA-489F-92AC-7989505F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27D-E434-4E51-BE27-82C981AD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415-9FDE-4302-893C-4EE3CCD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C0D-9324-4087-AB93-898BC0C0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EFAB-52E0-4B2D-8734-5EB85C46ABDB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6/6c/Diego_Vel%C3%A1zquez_Autorretrato_45_x_38_cm_-_Colecci%C3%B3n_Real_Academia_de_Bellas_Artes_de_San_Carlos_-_Museo_de_Bellas_Artes_de_Valencia.jpg"/>
          <p:cNvPicPr/>
          <p:nvPr/>
        </p:nvPicPr>
        <p:blipFill>
          <a:blip r:embed="rId1"/>
          <a:stretch/>
        </p:blipFill>
        <p:spPr>
          <a:xfrm>
            <a:off x="2340000" y="907920"/>
            <a:ext cx="4500360" cy="5408640"/>
          </a:xfrm>
          <a:prstGeom prst="rect">
            <a:avLst/>
          </a:prstGeom>
          <a:ln w="0">
            <a:noFill/>
          </a:ln>
        </p:spPr>
      </p:pic>
      <p:sp>
        <p:nvSpPr>
          <p:cNvPr id="42" name="textruta 2"/>
          <p:cNvSpPr/>
          <p:nvPr/>
        </p:nvSpPr>
        <p:spPr>
          <a:xfrm>
            <a:off x="2050920" y="638172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elazquez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Självporträtt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4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4"/>
          <p:cNvSpPr/>
          <p:nvPr/>
        </p:nvSpPr>
        <p:spPr>
          <a:xfrm>
            <a:off x="1619280" y="260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Del II – Diego Velázque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upload.wikimedia.org/wikipedia/commons/6/60/Diego_Vel%C3%A1zquez_024.jpg"/>
          <p:cNvPicPr/>
          <p:nvPr/>
        </p:nvPicPr>
        <p:blipFill>
          <a:blip r:embed="rId1"/>
          <a:stretch/>
        </p:blipFill>
        <p:spPr>
          <a:xfrm>
            <a:off x="2195640" y="189000"/>
            <a:ext cx="4713120" cy="6119640"/>
          </a:xfrm>
          <a:prstGeom prst="rect">
            <a:avLst/>
          </a:prstGeom>
          <a:ln w="0">
            <a:noFill/>
          </a:ln>
        </p:spPr>
      </p:pic>
      <p:sp>
        <p:nvSpPr>
          <p:cNvPr id="45" name="textruta 2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elázquez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Porträtt av infantan Margarita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(1653) – sidorna 70,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 82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och 8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upload.wikimedia.org/wikipedia/commons/e/e5/Las_Meninas.jpg"/>
          <p:cNvPicPr/>
          <p:nvPr/>
        </p:nvPicPr>
        <p:blipFill>
          <a:blip r:embed="rId1"/>
          <a:stretch/>
        </p:blipFill>
        <p:spPr>
          <a:xfrm>
            <a:off x="1835280" y="333360"/>
            <a:ext cx="531180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textruta 3"/>
          <p:cNvSpPr/>
          <p:nvPr/>
        </p:nvSpPr>
        <p:spPr>
          <a:xfrm>
            <a:off x="0" y="6364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Velázquez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Hovdamerna (1656) – sidan 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pload.wikimedia.org/wikipedia/commons/e/ee/Alcazar_de_Madrid_siglo_XVII.jpg"/>
          <p:cNvPicPr/>
          <p:nvPr/>
        </p:nvPicPr>
        <p:blipFill>
          <a:blip r:embed="rId1"/>
          <a:stretch/>
        </p:blipFill>
        <p:spPr>
          <a:xfrm>
            <a:off x="1692360" y="333360"/>
            <a:ext cx="5759280" cy="4319640"/>
          </a:xfrm>
          <a:prstGeom prst="rect">
            <a:avLst/>
          </a:prstGeom>
          <a:ln w="0">
            <a:noFill/>
          </a:ln>
        </p:spPr>
      </p:pic>
      <p:sp>
        <p:nvSpPr>
          <p:cNvPr id="49" name="textruta 2"/>
          <p:cNvSpPr/>
          <p:nvPr/>
        </p:nvSpPr>
        <p:spPr>
          <a:xfrm>
            <a:off x="1692360" y="465300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Alcazar de Madrid (1600-talet) - sidan 9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6:28:34Z</dcterms:created>
  <dc:creator>Rebecca Borg</dc:creator>
  <dc:description/>
  <dc:language>en-US</dc:language>
  <cp:lastModifiedBy>Växjö Kommun</cp:lastModifiedBy>
  <dcterms:modified xsi:type="dcterms:W3CDTF">2010-09-08T06:54:43Z</dcterms:modified>
  <cp:revision>10</cp:revision>
  <dc:subject/>
  <dc:title>Bild 1</dc:title>
</cp:coreProperties>
</file>